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4A11-2009-4C3B-AA7F-16F035D08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5AA93-4D87-43E2-B199-BCD1A1D1B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B9D3-D9EF-4ADB-AD85-EFDD18B0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1177D-C0D9-4749-9EE4-50C5F6D9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CD7F0-2068-4FFA-A124-287CFE894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75DD0-E1E0-4F75-BA90-030F303B3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85CFB-7754-44F6-9DFA-E8725CDC9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BE2A5-5D89-4028-B086-A10860FAC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854D7-3407-414A-8EFB-C8EA7B6F9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8D25A-AFB8-4AB9-8B61-768A70736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75343-3180-4CCA-9EDA-E743E8AA1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EACC3-07F6-42E6-858E-E10A7EBC9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EE9F-0299-49EF-9C24-C2A27D85A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B80AA-5040-4593-9CD8-509C8F605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470F4-8418-40DA-92FD-B2BF373FA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813DC-8870-489E-B9C7-0ECA6562C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CAF2A-BE8B-490C-9862-EB9597C6E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A2323-1149-4A29-A340-1AE5DB556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8764-6700-40FF-9545-0021D440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7F5AC-0331-4072-BF5E-F9C081D08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B16B4-68E1-4B46-B293-DC882822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28F3-AF8A-48A4-9250-E847BA05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C4BB-3279-4BA6-9F6C-116114729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BDD3-D735-42DC-9199-765955139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EC10-7967-4CC6-B1A2-7804E989E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335E-8B89-4ACD-AB4E-68059E6C9D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E370-77B8-49AA-8D8D-FFE24CB460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pic>
        <p:nvPicPr>
          <p:cNvPr id="90" name="" descr=""/>
          <p:cNvPicPr/>
          <p:nvPr/>
        </p:nvPicPr>
        <p:blipFill>
          <a:blip r:embed="rId2"/>
          <a:stretch/>
        </p:blipFill>
        <p:spPr>
          <a:xfrm>
            <a:off x="2362320" y="990720"/>
            <a:ext cx="4190760" cy="4419360"/>
          </a:xfrm>
          <a:prstGeom prst="rect">
            <a:avLst/>
          </a:prstGeom>
          <a:ln w="0">
            <a:noFill/>
          </a:ln>
        </p:spPr>
      </p:pic>
      <p:sp>
        <p:nvSpPr>
          <p:cNvPr id="91" name=""/>
          <p:cNvSpPr/>
          <p:nvPr/>
        </p:nvSpPr>
        <p:spPr>
          <a:xfrm>
            <a:off x="3352680" y="5334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にち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pic>
        <p:nvPicPr>
          <p:cNvPr id="97" name="" descr=""/>
          <p:cNvPicPr/>
          <p:nvPr/>
        </p:nvPicPr>
        <p:blipFill>
          <a:blip r:embed="rId2"/>
          <a:stretch/>
        </p:blipFill>
        <p:spPr>
          <a:xfrm>
            <a:off x="5410080" y="1676520"/>
            <a:ext cx="2870280" cy="3657600"/>
          </a:xfrm>
          <a:prstGeom prst="rect">
            <a:avLst/>
          </a:prstGeom>
          <a:ln w="0">
            <a:noFill/>
          </a:ln>
        </p:spPr>
      </p:pic>
      <p:sp>
        <p:nvSpPr>
          <p:cNvPr id="98"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876920" y="762120"/>
            <a:ext cx="3581280" cy="507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486400" y="1676520"/>
            <a:ext cx="3200400" cy="2286000"/>
          </a:xfrm>
          <a:prstGeom prst="rect">
            <a:avLst/>
          </a:prstGeom>
          <a:ln w="0">
            <a:noFill/>
          </a:ln>
        </p:spPr>
      </p:pic>
      <p:pic>
        <p:nvPicPr>
          <p:cNvPr id="105" name="" descr=""/>
          <p:cNvPicPr/>
          <p:nvPr/>
        </p:nvPicPr>
        <p:blipFill>
          <a:blip r:embed="rId3"/>
          <a:stretch/>
        </p:blipFill>
        <p:spPr>
          <a:xfrm>
            <a:off x="5943600" y="4267080"/>
            <a:ext cx="23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724280" y="1676520"/>
            <a:ext cx="4191120" cy="431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2286000" y="1066680"/>
            <a:ext cx="464832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09-12-14T16:01:31Z</dcterms:modified>
  <cp:revision>6</cp:revision>
  <dc:subject/>
  <dc:title>日本ビデオゲーム</dc:title>
</cp:coreProperties>
</file>